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5C2-5C5C-4D47-9C5D-10DBB381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16E-C757-4B78-93F6-5BF12502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697-C8EE-4AEE-91D1-A0C53593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5DC-86EE-4519-AFFB-98352490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BC7-F7FB-4F3F-A778-C2EEB5DC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057-1B0F-4203-85C4-1BF78D7D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9B2-C98E-44A0-AE21-8BDBA18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9E8-DCF9-42F5-AE84-D9B6DFB9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05E-D673-4429-87C4-BD55DC8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EA7-71DE-4716-8F1D-06655C4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360-50E0-438B-984A-4CE4612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9D3-753E-4EF0-82ED-7FCE785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22A2-9B91-4F9F-ACAA-A902C4A40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0445" b="0"/>
          <a:stretch/>
        </p:blipFill>
        <p:spPr>
          <a:xfrm>
            <a:off x="0" y="0"/>
            <a:ext cx="9144000" cy="797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Times New Roman"/>
              </a:rPr>
              <a:t>by Bromley, Bio, Olivia and Stac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692280"/>
            <a:ext cx="85676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 Kuiti Sanitary Landfil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60280"/>
            <a:ext cx="914400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The landfill started at tenth of January 2000.</a:t>
            </a:r>
            <a:br>
              <a:rPr sz="3200"/>
            </a:br>
            <a:br>
              <a:rPr sz="3200"/>
            </a:b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In 20 years the landfill might be fil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15,000 people come a year to the landfill, this does not count the weigh-in tru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There were twenty five children in our class and we weighed nine hundred and eighty KGS with bags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6449" t="0" r="29024" b="0"/>
          <a:stretch/>
        </p:blipFill>
        <p:spPr>
          <a:xfrm>
            <a:off x="-17640" y="-27000"/>
            <a:ext cx="3524400" cy="688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6449" t="0" r="29024" b="0"/>
          <a:stretch/>
        </p:blipFill>
        <p:spPr>
          <a:xfrm>
            <a:off x="1619280" y="0"/>
            <a:ext cx="3510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6449" t="0" r="29024" b="0"/>
          <a:stretch/>
        </p:blipFill>
        <p:spPr>
          <a:xfrm>
            <a:off x="3583080" y="0"/>
            <a:ext cx="351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6449" t="0" r="29024" b="0"/>
          <a:stretch/>
        </p:blipFill>
        <p:spPr>
          <a:xfrm>
            <a:off x="5686560" y="0"/>
            <a:ext cx="34574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774072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Mr Silver is a civil engine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Mr Silver has been working at the sanitary landfill for 4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Mr Silver wants to crush the glas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The glass is made out of s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Five people work at the landf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6094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4247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50% of people recycle in Te Kui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They recycle 20,000 pieces of plas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All of the dirty water transfers to other ponds then the landfill gets clean wa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91% of green waste has been recycled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8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55:04Z</dcterms:created>
  <dc:creator>Windows3</dc:creator>
  <dc:description/>
  <dc:language>en-US</dc:language>
  <cp:lastModifiedBy>Students</cp:lastModifiedBy>
  <dcterms:modified xsi:type="dcterms:W3CDTF">2007-08-30T22:15:18Z</dcterms:modified>
  <cp:revision>13</cp:revision>
  <dc:subject/>
  <dc:title>PowerPoint Presentation</dc:title>
</cp:coreProperties>
</file>